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270C72-A5E0-4ABC-8AAC-D70F69D2B7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936738-4253-4A83-9DC3-804731D717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85BC8E-1F1B-4C4C-8429-62E7DE8C15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313A2B-8F22-4259-9DAD-8367B9CABC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904D75C-325B-4C35-8725-DC5F0AA0941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D893DB-F1A8-4AAC-B1D2-02C8702BE2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F045B9-5FD3-4966-B398-4A52B8750E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56AAD1-3491-4A92-AE25-002A371A42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6C25D8-E54B-49DB-B871-0CCCF719EA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CC1796-5DC2-4E6E-AB5C-231E897A2A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B5EB8B-2271-408A-983B-68DE896C8A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A57A79-12DF-4D5A-8105-A4C3D8B86D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202F18-F9E1-4A12-8642-A600FDB171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502311-185A-42E7-B076-0A040640FD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2FABDA-9381-4088-8B48-DF08846B8B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473EF1D-EE2D-492F-8E05-01ADEE1A82A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1CD753C-C50D-42C0-BCB7-EAB0B6EF607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40FC45-CCD9-4EFE-800D-C20FB9FE4A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A035F7-01C9-42B1-8F49-621F174CAB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B3BF59-36B7-48FC-A758-16B79DBF4E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8A98F2-A6E0-47E5-839C-C55C54C6D4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69EB50-E2DF-406C-ABFF-8E6F6C6C4F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E51449-33BD-4FFE-9CE1-8C6645C2F7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9FDA4C-F930-4356-86A9-C13008D414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C1FA10-57B6-45A9-B469-77ECEA48B5F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0F2AC9-936E-425C-AFA9-CB15F1E7987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B825ED2-1F29-485A-83C2-59C306F6815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025AF1E-A439-4364-8A2D-05A88581B08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FEA6C8-8B46-4D0C-AB3C-C939D8BE1DA6}"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631677-F6F0-48B4-8EFC-665E034B9CFA}"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F9312E-DFB1-4EDB-92D2-9B2D54ABC7FF}"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9CA902-F965-40BB-819D-7B9BEABE8F84}"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094354-1EF5-4641-950B-0FA261A245BE}"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CB5B5E-77F8-4B42-A500-641FA8658222}"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E91076-057D-4400-8209-4012695D6DFB}"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828980-DD26-428F-B5E3-250321403C4F}"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C35F6F-9812-43A5-9559-7A4E1A1D7CCB}"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83141E-74A6-463A-976F-11312BB2540C}"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06E07C-661E-4244-848B-FAB4CBB8B894}"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99A54B-9561-46D2-9534-999F016A1074}"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CC1B09-513F-436B-B6CF-F796C0E48742}"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ABC74D-CB1B-401E-83C1-A7B253653A6A}"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4734E7-8D87-4435-9215-C13C67A5E3C1}"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15892F-DA30-48F3-BA48-2C316A8C69BF}"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A27A12-773E-4692-8695-65CB6C278771}"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EA9C95-454A-4F94-B237-CBF8C0E4C206}"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D47938-D4C9-4512-B959-A2E79A9CC36A}"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0CFCCF-0854-4691-B9E4-6088712584DF}"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A83FDC-647A-484B-B6F8-0738F8C7D483}"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81B733-9236-4965-852C-41A56CAE4B09}"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8AB543-64B6-4A31-94A2-779D63F44C99}"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3647AC-E27B-4528-A0D0-BB39860200F6}"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F8C0D6-7482-4985-8299-C10B6898407A}"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21F0046-BF54-4391-B724-2844469FBA0B}"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42D3D7-CAF5-4040-9091-95AEC69F3599}"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B8DCB1-E9E6-4FC8-BDC3-DDB0E3D939A9}"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AD7647-496F-4345-821C-6C4929C3BBA0}"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2BD195-A766-4BA7-837C-B7F45B77E04D}"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48EEAE-D4BF-451B-9933-AEA297B7C877}"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66EAD2-C1C5-432A-9155-15CB07C31770}"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6E149A-79D6-475F-B6E0-B5F6A90978A9}"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ABC646-461E-432A-B816-E3F386FF3764}"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CD2429-7B1F-47F3-9D20-B56C873D3180}"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3367B5-3224-4845-A2F4-6E374F51C218}"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468B7F-B44D-43C7-95B0-CF882296FF0F}"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E71D29-025A-4C83-A026-6A723DA4B050}"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F97CC8-A1FE-4B5E-B70A-D93FAA764E29}"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17B564-F033-4433-A615-B0A3F2129D13}"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D39C06-A734-458F-868A-68B43366BEF6}"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0F9045-5985-4E00-9711-65C48E170E2E}"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7276D3-C7B8-437F-8520-59E1DA0F3ADB}"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2AF9E1-D68B-42C5-99F8-7B815093B0B6}"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CB14E1-2705-4DDA-9EB8-68BC41F80442}"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230D20-9FCF-4563-8680-0941381AE2AE}"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576685F-3078-4AD2-94DE-9764096AA3C1}"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E768A1-E8A0-4FE5-A5CF-1C7942A996EC}"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214B24-933E-437D-9601-79FBF7D67449}"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58B5AD4-8F8C-44CE-B313-AA3718F3558C}"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038732-5C1C-4CD9-B851-CC9AAA984F4A}"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7474C2-0C3A-471B-AF7D-DED6EA57E673}"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C046EB-7AD3-4BAF-94C5-87CF73D678AC}"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8408FA-A4AC-44E3-BFF2-F663BB30DFB5}"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66B477-26EC-429D-A847-3D8E3E76C2EB}"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31D17D-2500-4AFF-A850-0BCF231DD495}"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23E909-9AD9-4E45-B80E-3D81BDEF34A7}"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B789301-CFD3-4236-98F4-B54ED94CA7A2}"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2E2ABA-01EB-438D-B3F2-FF023D18EBA3}"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ED75CD-0E9C-4E6D-B0A8-D790BA93FE66}"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E301BE-0116-480A-B7D8-AC9DF4A4E7EF}"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860A3B-5C7D-48BE-9F07-0B9653E63D41}"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E568AE-004F-47E1-B1CA-5199CC0EAE49}"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81AADF0-1234-498A-9973-284D4FE4BD1E}"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227467-FB16-40F0-BAD7-6F24D94543B0}"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3FFF63-EB8D-4FD9-B0D0-3CC175486738}"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3C4246-FFE0-42F6-9526-DFCF185529BE}"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FCFA50-4FE3-4BE3-ADB9-81873A50FF13}"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53C2A71-9DFC-4053-9755-8577E565D116}"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BC32BD-9999-49EE-BCEE-EB4C6502AAB2}"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9A93EB-AF60-4CE7-ADAC-9893132EEBEB}"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2868F3-A0B2-4E79-BC41-49D12CBAA9BD}"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1EEC23-EBCD-4791-A648-D821405349CD}"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727237-F44C-4AAB-9594-832E19CBC76C}"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35F77B-5C39-48E0-9FE0-6BCE972EC853}"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20841EE-D70A-43C1-8F22-24E3A9DC0C8E}"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6B370E-D72D-46EC-8292-662F8CDB4BE5}"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19B98B-CAB9-49D7-A5AB-0E30078C859A}"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B53AC6-41B8-49B8-89DD-BDCFC7AFCE0F}"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722D3CF-9884-4E39-A9E9-A506F03EE5CB}"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BB51FA-3B21-4335-87BE-73C46726C174}"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46496BA-ADC8-42A4-9B05-A2388F80A1DC}"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AD2E08-17C6-47A8-B82F-62F2F798F4D4}"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404202-E6F7-4627-BD4F-8D566FF006CD}"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6CDE32-8367-4C2F-9FE3-E85D435F2278}"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EB2088-2E61-4714-9BD8-F1159B1C5D8C}"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1572C3-AB4D-4528-BBE0-6F8FEDD95708}"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55CB7D-BEB1-41EE-AFB1-6BDC1F27E3C6}"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BE69E7-36C2-4405-B742-7DFB188FFBEB}"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22CA52-CF18-4B18-8DA7-1551923AE050}"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5562FA-40AF-45F7-8F02-0EB8929C8331}"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C880A5-5647-40BB-ACF8-E1F1EF7256A3}"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1F102E-0D86-4CFF-8132-C93688800C10}"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468F61-BC8A-4846-8AC0-D82D6567A0A2}"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13F8E6-BA86-4BF2-9246-4BF314227FCF}"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1D243A-9F08-4118-876D-330EB3322DF2}"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8C3A21-995B-40C6-99A6-C393C0BC2963}"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3561BF4-AFD6-4792-9FFA-A73219582BAF}"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4A3613-0C7B-4A15-B14C-60E5AD6A1320}"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08BB41-90A9-4C1D-B3DB-D761CC11AE43}"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3F3BD6-3B0C-4317-BACB-9E80DEF0E06E}"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951BD1-9E02-44BD-874E-D3BA22E41463}"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D48932-625C-49F0-9724-2C6CF27B7B1A}"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084249-EA41-4D29-B8D3-08C3EAB59870}"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A97657-138E-440D-AFA1-E6C70D4FF718}"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6E7EAB-0DFB-4BCA-A585-6E7C86800A7A}"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D7DD6F-5898-4484-AD20-D26DF88D2DD2}"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DBBDB4-B8AB-491F-B39A-83274A68A842}"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ECDD11-B51C-4387-8CA9-629354C6C6F2}"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93CEAF-C830-48E9-A307-722CC3C503C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327F6D-387E-4928-B7E8-F02152BE59AC}"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81D075-CF83-4130-AC0A-4503E59A81B5}"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F4BCE7-D907-41D7-9015-568B52757ED9}"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CB9765-77D7-44B8-B309-C5D4C384F381}"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BF81AF-28C5-466E-9CEF-4CC6F3C7D1A8}"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2C1A40-7088-42E5-BCE0-52C13E542BDD}"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2E2E7E-198E-449E-BA77-9649AB63ADAE}"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78088A-2FE6-4967-9CBD-D792AE5FAAF9}"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962693-544D-4E13-A730-407E4CC7D7C8}"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F5DEAE-5CC0-4429-9212-0139E0B36AD8}"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9593B7-DCA1-4CCB-AACC-22929A048141}"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4A4854-CC55-4A47-A105-C74105FB1685}"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C1C72F-5D07-4816-8D6C-8D452470E1B0}"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D3161F-480A-499F-BD7D-B5EB99FD575F}"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0E1EAD-A73C-43B8-827B-6097BC08FFBB}"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6734FFF-E253-4DF5-BEA3-F013877D849A}"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3B1633-03C3-4150-AED3-62F2535A8E8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1524DA-8AB0-433F-8D9E-C6D57C9A1DA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6284F2-8950-4F51-92D1-E6DAA2E332C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672244-A33A-4C22-8566-6F3D5825FE8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6EC2C2-AC6B-4D01-89F6-D6E49A26389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6B4C87-91E4-4A99-9754-3A32EA874B6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A397F65-1908-4334-A19C-AECF3530DF0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BF932B-F1B0-43F7-A262-C9452302EAA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D4F90F-8E32-47B0-993C-185914026A4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787CF4-2CDC-4BA4-A6AC-AD59EA2099C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789FB6-CDEA-4F72-82D1-5A42BF003F1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C908A1-259E-4F4C-80CB-1D8FB17AE8E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E6F62B-1C46-46C7-BC27-CC0A7FA814A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3F9B89-4C7F-4BAE-93C9-194E25C94A2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BC3FEE-B254-40F3-B994-8B39D446704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EA3DFE-88CF-45A4-9E2C-42E95BC4596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52B848-2732-45C2-9640-DF8053E1121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AA4082-7FB2-4077-914F-5B76D9B3D2D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16EA7F-35F5-4EAC-8FDF-1FE7315DBED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F11998-41BE-4027-8B94-A5BEF722D80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700759-3FE5-434F-90DC-FA78DF64FE5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6A5828-7DCB-4473-B934-DA51C261A95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8A7035-1CE7-4239-AB7F-60221E4451E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78DFFA-E880-4DC1-98C6-46608A8A146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E7EF04-5B66-44A6-9EF0-2B6D0C76922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D2CAC4-984D-4349-A6BD-2C9EEA2D817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8268F5-78FA-4DA3-9D5C-68009AA528D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6C25B7-29ED-4B54-B342-DCF8BB164AD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527ED3-8F69-4748-B1B5-DCC4A1C8338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C8619E-7B86-457C-90A3-702FF3A19FD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639BCA-C106-4A84-BDAE-B7799C7473A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291CB2-1B8A-48BC-B80B-BDDBFD1C695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FB2C07-EFA7-496F-95DF-DB54922C68B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BCC305-7148-410C-BCF6-7F14145A595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EBEB54-C8B0-4C6E-A755-261B93889B4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757CAE-0E13-4CCB-9575-4246302F87E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2EBE32-37D9-4A85-9C80-30E17A0C565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2E43EA-2CD8-4DD5-AD1F-BFFEBD7E6185}"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220B84-6E5A-4136-BBBC-F6BA49D7E18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34AC03-9B89-4B6B-9C59-4BA916C973C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8A88BF-BD48-42A8-98D1-6AA17FEBFDC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67F0E1-9327-44A8-B1F9-617D47B16C5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445A77-47D3-4985-A700-092C9B7201E1}"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EA3E72-A58B-4372-8AD7-D531AB94C70B}"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75AB24-C517-4C2F-B8A3-4B5BED9E014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F5AEF5-CB57-4025-8A78-EAAAC1549B3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C57FC1-0067-483F-A7D0-FB4201AFDAFE}"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B458C9D-D48E-4968-90CC-8A2021A3B97C}"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7DE3B3-0EE3-4A7E-94B1-AD3BD6711779}"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A27DC5-BF51-456F-A3FF-25333164E44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98CDB7-245A-47B2-9C69-77D8CB0C4905}"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F2CB3E-0163-404D-8393-D69BACF6562E}"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301A03-AA7A-47AD-AC34-1AFDBB503CBE}"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09F604-9938-4487-BCBA-47B0D3DD7D5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58BB4B-2B55-4F26-8601-1D5ED412A0F4}"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3DA4E3-78F9-4AC4-8EC3-5AE63AD4A1F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94007FB-4156-46E2-AE2D-187D371B1D8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650E3B-4429-4726-A180-0FAD5382E81D}"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E97A08-F7A0-49BB-97B2-A5C62B92A24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BFB42A-52BC-4E35-B271-FC8AD86F7B00}"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773E17-0E65-48F8-8D29-160D00BA9EA3}"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F049DF-3535-4A18-AB84-1B3D58515262}"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E0FC19-38E7-4B63-9D8C-2A82087013F8}"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71D403-7B43-4E50-84DD-6D7CD2C2D378}"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FA6B8E-F1C5-43A3-B44F-36A9E400E423}"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2EB4B8-6CBB-4317-B3F1-4D222D605E8F}"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FC1014-E876-4BE5-B878-8730650A507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25B619-3FF4-4F8D-A1A2-51444190EFAF}"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8B7A00-200E-4DF3-9552-D4E3C888B942}"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3EA8FC-FABA-4052-8CAC-9DE8418F8727}"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1E736B-B4F6-4C3E-BAD9-8EFFA1A9BE2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A8AF247-57D1-4618-9A6D-7CA55A1E7F1E}"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11F113-FEE6-4888-A164-B8B5B00146B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E96093-D9D3-4907-885B-BA948B96F7EA}"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055A69-1F34-4903-87B3-6F812AAD9C3E}"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447AA0-A382-4C91-B0E2-262B8B253AC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C4145C-B9ED-48BA-9197-E6BBE7A9300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FC8966-021A-471F-88F9-8AD0C839231E}"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E14310-0CD3-4B79-A67E-3A8257CFEA86}"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35B307-2692-450E-B4FE-DB19B39A415F}"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B29803-990A-46CC-9940-DD10448DA884}"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E3A847-5B22-40DC-8D20-91797F13FAA8}"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39F2E6-572B-420B-BC33-B1111CBC224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E43F1E-9B83-4A25-ADE8-396138ABDAC6}"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CF045F-03F9-47C3-8DB9-CC279506EFC3}"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